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E74-1E9C-4014-9D5D-E47695DE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3BB-959A-44C5-8C6A-BAA7BAD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293-CA3A-4C00-A68A-6DC6B09A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89A-7B96-4561-93EB-9FA89EA3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BDD-40D4-45C7-AF2D-4687D652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B4E-C354-41AD-A1E3-3D7519D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18C-6C8D-4DEA-B97A-630883A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8B8-4009-4A26-9A20-2A752DF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A73-8E19-4EBD-B610-36CBFD91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355-59AA-4D01-94CF-95C9AC5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CE6-26D8-4E6B-95A7-95EBEF38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E3C-E02B-418C-BD12-A80CACAD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DE30B-583F-4C93-9CB8-4371F85E3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30216-E3C9-4915-8A85-C2022073A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resentation1.jpg"/>
          <p:cNvPicPr/>
          <p:nvPr/>
        </p:nvPicPr>
        <p:blipFill>
          <a:blip r:embed="rId1"/>
          <a:srcRect l="-18183" t="0" r="-18183" b="0"/>
          <a:stretch/>
        </p:blipFill>
        <p:spPr>
          <a:xfrm>
            <a:off x="-1038240" y="0"/>
            <a:ext cx="1170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resentation2.jpg"/>
          <p:cNvPicPr/>
          <p:nvPr/>
        </p:nvPicPr>
        <p:blipFill>
          <a:blip r:embed="rId1"/>
          <a:srcRect l="-18183" t="0" r="-18183" b="0"/>
          <a:stretch/>
        </p:blipFill>
        <p:spPr>
          <a:xfrm>
            <a:off x="-1673280" y="0"/>
            <a:ext cx="1251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Presentation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4:47:43Z</dcterms:created>
  <dc:creator>admin</dc:creator>
  <dc:description/>
  <dc:language>en-US</dc:language>
  <cp:lastModifiedBy>admin</cp:lastModifiedBy>
  <dcterms:modified xsi:type="dcterms:W3CDTF">2012-02-10T15:14:59Z</dcterms:modified>
  <cp:revision>3</cp:revision>
  <dc:subject/>
  <dc:title>Ishmael Beah</dc:title>
</cp:coreProperties>
</file>